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AB7-A121-4CC8-B5B3-0FE48C85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ABB-90A7-4194-BEAC-D0531FCC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E6F-B0DC-46D8-ADFD-C5D0BD7F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31C-9464-4D89-A162-FB5F1F91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765-25A8-4A6B-89A5-376FD9C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5FB-C54A-4DA3-867B-1483F603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6A6-C557-4BBB-8F91-38608B57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EB6-C331-426E-BD56-12D2905E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5A3-1CA5-4965-825B-BC60381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85A-33A6-46B6-AF27-D9B39FE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03B-068D-4743-9823-D017EF0F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A0C-5E34-4491-A36A-3AED2F1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C4A5-F82F-4824-B16F-6E6F951F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irvmusic.com/music%2520note5.jpg&amp;imgrefurl=http://www.irvmusic.com/&amp;usg=__hRLK7KywcvhCEsQr1OuXAdTkFYE=&amp;h=500&amp;w=483&amp;sz=51&amp;hl=en&amp;start=1&amp;itbs=1&amp;tbnid=kcHB2XPgnrS8TM:&amp;tbnh=130&amp;tbnw=126&amp;prev=/images%3Fq%3Dmusic%2Bpictures%26hl%3Den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sg/imgres?imgurl=http://www.kidcartoonists.com/wp-content/uploads/2008/01/shevlin10.jpg&amp;imgrefurl=http://www.kidcartoonists.com/index.php/2008/01/28/by-shevlin-age-10/&amp;usg=__9xlWB--LWVi4RWV2U5-Np4Ms7HI=&amp;h=420&amp;w=500&amp;sz=43&amp;hl=en&amp;start=4&amp;itbs=1&amp;tbnid=2FGglsviMkSAYM:&amp;tbnh=109&amp;tbnw=130&amp;prev=/images%3Fq%3Dcartoon%2Brunning%26hl%3Den%26sa%3DX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Y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What kinds of music will help us feel less tired when run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00600"/>
            <a:ext cx="1199880" cy="123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6019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formal Roman"/>
              </a:rPr>
              <a:t>irvmusic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80880"/>
            <a:ext cx="1238040" cy="1038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14479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Informal Roman"/>
              </a:rPr>
              <a:t>kidcartoonist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Running with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143000"/>
            <a:ext cx="815328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radley Hand ITC"/>
              </a:rPr>
              <a:t>To 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music helps people concentrate and feel calm, when combining this with running, it helps people get away from reality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music helps give you a last push to your real limit and make you persevere till the run without walking or stopping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6483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radley Hand ITC"/>
              </a:rPr>
              <a:t>Not to 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some people feel that listening to music when running destroys the purpose of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people want to enjoy the nature when running instead of getting away from 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pushing yourself without music really needs more determination than having extra help, in this case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102888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Informal Roman"/>
              </a:rPr>
              <a:t>mahalo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How am I going to carry out thi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971800"/>
            <a:ext cx="79246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I would have a female candidate of age 35-45 to run a distance 3.6 kilometers while listening to different choices of music, they are Christian songs, slow, fast, pop and classical. I will also have no music as a choice of ‘music’ for a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Here is my tiredness 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radley Hand ITC"/>
              </a:rPr>
              <a:t>1(not at all tired)   2(not very tired)   3(just tired)  4(dog-tired)   5(extremely tired, going to d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radley Hand ITC"/>
              </a:rPr>
              <a:t>Then I would, record the candidate’s feeling in a 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1337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My hypothesis: Running with music helps people feel less t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5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04920"/>
          <a:ext cx="8381880" cy="63241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397160"/>
                <a:gridCol w="1396800"/>
                <a:gridCol w="1397160"/>
              </a:tblGrid>
              <a:tr h="324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MY EXPERIMENT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Type of Mu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Tired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No 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hristian so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F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P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No 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hristian so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F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845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274680"/>
          <a:ext cx="8229600" cy="5851080"/>
        </p:xfrm>
        <a:graphic>
          <a:graphicData uri="http://schemas.openxmlformats.org/drawingml/2006/table">
            <a:tbl>
              <a:tblPr/>
              <a:tblGrid>
                <a:gridCol w="1371240"/>
                <a:gridCol w="1371960"/>
                <a:gridCol w="1371600"/>
                <a:gridCol w="1371240"/>
                <a:gridCol w="1371960"/>
                <a:gridCol w="1371600"/>
              </a:tblGrid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P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No 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hristian so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F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P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2:43:07Z</dcterms:created>
  <dc:creator>Josh</dc:creator>
  <dc:description/>
  <dc:language>en-US</dc:language>
  <cp:lastModifiedBy>Josh</cp:lastModifiedBy>
  <dcterms:modified xsi:type="dcterms:W3CDTF">2010-04-11T13:54:08Z</dcterms:modified>
  <cp:revision>7</cp:revision>
  <dc:subject/>
  <dc:title>MY RESEARCH QUESTION</dc:title>
</cp:coreProperties>
</file>